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79D-F393-44B5-B5D6-54BC83F8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7DF-FB4C-41BB-B195-6F785667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22D-DE85-4EAC-898E-4DBA38E6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99E-9A60-4F2A-A768-5827CD6C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1A8-49D9-428D-B808-6FE18CD0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B92-6E88-416A-8A5E-2F8EAEAA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D6B-F3CF-4E84-AACF-E00B7776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544-8ABF-43C0-ACB0-AA4D062F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9D9-1D31-47D7-9085-6521F9C5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9BD-8389-44BC-9B1C-96AB6453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C31-07FE-4525-B500-9973699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03D-A6E9-41C0-8544-BB178DE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DC98-4A7D-4B70-AFAE-2E55C8CEC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Hyperlinks to trigger your scenes and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create a PC terminal that can control lights and demo some product simultaneously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Install, museum, exhibitions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87664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Go to the nex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2676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tup system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341360"/>
            <a:ext cx="87854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 the "hsm" folder (includes all ".hsm" files)  in the DMX software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 the "slnetwork.exe" file in the DMX software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 the HTML, PPS, ... file in the DMX software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ignation of the '.hsm' extension to SLNETWORK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your file with html hyperlinks. Hyperlink must call the .HSM files in the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the "slnetwork.exe"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the DMX software and assign some keys 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 on the page with html hyperlinks and click on the created 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5877000"/>
            <a:ext cx="64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 to the nex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emo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837480" y="5757840"/>
            <a:ext cx="1371600" cy="628560"/>
          </a:xfrm>
          <a:prstGeom prst="rect">
            <a:avLst/>
          </a:prstGeom>
          <a:ln w="0">
            <a:noFill/>
          </a:ln>
        </p:spPr>
      </p:pic>
      <p:pic>
        <p:nvPicPr>
          <p:cNvPr id="48" name="Retour" descr=""/>
          <p:cNvPicPr/>
          <p:nvPr/>
        </p:nvPicPr>
        <p:blipFill>
          <a:blip r:embed="rId2"/>
          <a:stretch/>
        </p:blipFill>
        <p:spPr>
          <a:xfrm>
            <a:off x="719280" y="5757840"/>
            <a:ext cx="1447560" cy="56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076400" y="944640"/>
            <a:ext cx="1622520" cy="125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874960" y="944640"/>
            <a:ext cx="1627200" cy="126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116760" y="3598920"/>
            <a:ext cx="1627200" cy="12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675320" y="944640"/>
            <a:ext cx="1627200" cy="12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473880" y="944640"/>
            <a:ext cx="1627200" cy="12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1798560" y="3608280"/>
            <a:ext cx="1627200" cy="126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957480" y="3598920"/>
            <a:ext cx="1627200" cy="12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4:14:46Z</dcterms:created>
  <dc:creator>Daslight</dc:creator>
  <dc:description/>
  <dc:language>en-US</dc:language>
  <cp:lastModifiedBy> </cp:lastModifiedBy>
  <dcterms:modified xsi:type="dcterms:W3CDTF">2006-02-01T11:35:48Z</dcterms:modified>
  <cp:revision>32</cp:revision>
  <dc:subject/>
  <dc:title>Diapositive 1</dc:title>
</cp:coreProperties>
</file>